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C50-B7CA-4303-8A14-4F250794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ED9-9100-4B35-9E56-9B1BAADA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F5B-5BA1-4B5B-A76F-BB1358B8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307-A70E-4D20-9567-0F663E23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3918-9C2E-41ED-8F8A-24F1E09D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90E7-305C-4F61-A13F-00725EE0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C4B5-6D45-4438-8689-6550C59B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2173-2C6E-4ABB-92F7-40FDA99D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1A51-4E73-4FAB-A0A6-19248514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9565-38FB-4349-B301-D2472BB4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7ECF-886F-44C6-988D-ED9467D7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623-E090-49D1-9858-59B4BF70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E54C-ABD9-4497-A295-6B438C5E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0948-60B3-494D-9735-11854337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CE3E-1C2A-4F1E-9815-1C368A3E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E59-26B4-4FB4-8E19-B88E8A6C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6AFA-975D-46B2-B8F0-5DD7347B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6CA-64D9-4A92-9AA5-65CFD7E8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053F-EB60-4BAB-B7BC-9539E59E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9D2-6CFB-451D-89FC-F1627A94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EEB-2C55-433A-A531-3E156F87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D80-C4DC-42E3-AC47-1C473979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1AD-1FCC-46C7-BC82-3C060D98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CE8C-1C53-4CB5-B002-B4547888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51B0-50E2-4B64-A758-52ABA5B0C0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6974-5904-4D53-A228-FFA366AEF0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google.com/imgres?imgurl=http://noesolmusic.files.wordpress.com/2008/11/colores-palabras12.jpg&amp;imgrefurl=http://noesolmusic.wordpress.com/2008/11/16/la-luz/&amp;usg=__OLeijsWMa1A2sO-B2f46b3g6Y0U=&amp;h=300&amp;w=450&amp;sz=34&amp;hl=en&amp;start=9&amp;itbs=1&amp;tbnid=jfd7c2iJxf9a8M:&amp;tbnh=85&amp;tbnw=127&amp;prev=/images%3Fq%3Dcolores%26hl%3Den%26safe%3Dactive%26sa%3DG%26gbv%3D2%26ndsp%3D20%26tbs%3Disch:1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a clase de espanol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: Veronica  Bry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s depar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 juego tenis y basqetbo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gusta golf y  el futbo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tenis y niev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gusta el boxe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juego basqetbo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15699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772080" cy="1752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fé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s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209680"/>
            <a:ext cx="3733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s estacio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r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mave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o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3581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9:23:13Z</dcterms:created>
  <dc:creator>WSFCS Workstation</dc:creator>
  <dc:description/>
  <dc:language>en-US</dc:language>
  <cp:lastModifiedBy>WSFCS Workstation</cp:lastModifiedBy>
  <dcterms:modified xsi:type="dcterms:W3CDTF">2010-04-26T19:49:43Z</dcterms:modified>
  <cp:revision>3</cp:revision>
  <dc:subject/>
  <dc:title>La clase de espanol</dc:title>
</cp:coreProperties>
</file>